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FFAF-0E3B-4486-B304-859F60504DA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alculus A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we are only finding indefinite solutions, we must indicate the ambiguity of the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is is done through using a letter to represent any constant.  Generally, we use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we are only finding indefinite solutions, we must indicate the ambiguity of the consta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ly, this is done through using a letter to represent any constant.  Generally, we use 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ppoCamp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lope field shows the general “flow” of a differential equation’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, slope fields are used in lieu of actually solving differential eq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lope field shows the general “flow” of a differential equation’s solu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ten, slope fields are used in lieu of actually solving differential equa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struct a slope field, start with a differential equation.  For simplicity’s sake we’ll use                         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than solving the differential equation, we’ll construct a slop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points in the coordinat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in the x and y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 is the slope of the tangent line at tha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nstruct a slope field, start with a differential equation.  For simplicity’s sake we’ll use                         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her than solving the differential equation, we’ll construct a slope fie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k points in the coordinate 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in the x and y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sult is the slope of the tangent line at that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slope field for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since there is no y in our equation, horizontal rows all contain parallel segments.  The same would be true for vertical columns if there were no 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 a slope field for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inverse op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 and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an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s and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n inverse oper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nents and logarith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ion also has an invers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also has an inverse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fferent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unction       whose derivative is given by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          is an antiderivative of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unction       whose derivative is given by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           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ay that           is an antiderivative of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we say            is an antiderivative and not the antiderivative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           is an antiderivative of          , we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that     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                           and                             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we say            is an antiderivative and not the antiderivative.  Wh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           is an antiderivative of          , we c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y that      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                           and                             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earlier equatio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a differential equation and could also be written as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think of solving a differential equation as being similar to solving any othe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all the earlier equation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called a differential equation and could also be written as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think of solving a differential equation as being similar to solving any other equ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find y as a function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nly find indefinite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ing to find y as a function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only find indefinit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basic steps to fol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Isolate the differ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 both sides…in other words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tideriv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basic steps to follow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solate the differen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t both sides…in other words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ideriv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458-C709-4CED-8A41-3CDCF857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1AB-155A-4156-B2FE-AAF96B73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3F1-48E6-4372-BEEB-0EB53F8A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9AB-C89A-43DE-9B12-E09B66D7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C2F-E6AA-4B27-A3E1-FAB4996B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7BC-90F2-4F96-B27B-87173274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1B8-7BED-4947-B7B9-BE731454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A6F-91ED-429B-A4F4-CB043328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4C7-6A43-484F-9A62-8721EAFD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C81-F983-4CE4-84A2-E50E88CC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4E1-791B-4989-97B1-0468915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6DB-FF30-41C5-BAF9-4ABE4D4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7A6C-6ECB-426E-A82B-4B5CD5BA9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 AB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tiderivative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l Equation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lope Fiel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we are only finding indefinite solutions, we must indicate the ambiguity of the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ly, this is done through using a letter to represent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tant.  Generally, we use 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v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81080" y="1447920"/>
                <a:ext cx="601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517840" y="1743120"/>
                <a:ext cx="834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209680" y="2743200"/>
                <a:ext cx="177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8"/>
          <p:cNvSpPr/>
          <p:nvPr/>
        </p:nvSpPr>
        <p:spPr>
          <a:xfrm>
            <a:off x="6324480" y="28195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e followi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lope fiel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shows the general “flow” of a differential equation’s solu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ften, slope fields are used in lieu of actually solving differential equ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construct a slope field, start with a differential equation.  For simplicity’s sake we’ll use                          Slope Fiel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ather than solving the differential equation, we’ll construct a slope fiel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ck points in the coordinate pla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ug in the x and y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result is the slope of the tangent line at that poi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447920" y="2503440"/>
                <a:ext cx="1974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truct a slope field for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122800" y="3678120"/>
                <a:ext cx="1658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4495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equ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4495680" y="1523880"/>
                <a:ext cx="116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" name="Object 11"/>
          <p:cNvGraphicFramePr/>
          <p:nvPr/>
        </p:nvGraphicFramePr>
        <p:xfrm>
          <a:off x="2743200" y="2590920"/>
          <a:ext cx="5349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34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14"/>
          <p:cNvGrpSpPr/>
          <p:nvPr/>
        </p:nvGrpSpPr>
        <p:grpSpPr>
          <a:xfrm>
            <a:off x="609480" y="2400480"/>
            <a:ext cx="2133720" cy="952200"/>
            <a:chOff x="609480" y="2400480"/>
            <a:chExt cx="2133720" cy="952200"/>
          </a:xfrm>
        </p:grpSpPr>
        <p:graphicFrame>
          <p:nvGraphicFramePr>
            <p:cNvPr id="59" name="Object 8"/>
            <p:cNvGraphicFramePr/>
            <p:nvPr/>
          </p:nvGraphicFramePr>
          <p:xfrm>
            <a:off x="1914480" y="2400480"/>
            <a:ext cx="828720" cy="95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4480" y="2400480"/>
                      <a:ext cx="828720" cy="95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12"/>
            <p:cNvSpPr/>
            <p:nvPr/>
          </p:nvSpPr>
          <p:spPr>
            <a:xfrm>
              <a:off x="609480" y="25909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eorgia"/>
                </a:rPr>
                <a:t>Fin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4495680" y="2590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is an inverse operation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2438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38080" y="3124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657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380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ponents and loga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tion also has an inverse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3429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antidefferenti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function       whose derivative is given by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at is            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43400" y="1555920"/>
                <a:ext cx="501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295280" y="2038320"/>
                <a:ext cx="1416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2184480" y="297180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2743200" y="403380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7162920" y="395748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Text Box 13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248520" y="2819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44000" y="405288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say that           is an antiderivative of          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5"/>
          <p:cNvGraphicFramePr/>
          <p:nvPr/>
        </p:nvGraphicFramePr>
        <p:xfrm>
          <a:off x="3567240" y="2917800"/>
          <a:ext cx="184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917800"/>
                    <a:ext cx="184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we say            is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tiderivative and not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tiderivative.  Why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nce            is an antiderivative of          , we can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ay that      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                            and                             , fi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759120" y="152388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778040" y="281952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172200" y="281448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141640" y="3348000"/>
                <a:ext cx="227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219320" y="4226040"/>
                <a:ext cx="23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4343400" y="4191120"/>
                <a:ext cx="2457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62120" y="5100480"/>
                <a:ext cx="9032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2438280" y="5181480"/>
                <a:ext cx="831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ecall the earlier equation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s is called a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differential equatio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d could also be written as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can think of solving a differential equation as being similar to solving any other equ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5520" y="1371600"/>
                <a:ext cx="6015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41920" y="1666800"/>
                <a:ext cx="83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657600" y="3048120"/>
                <a:ext cx="1752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ing to find y as a function of x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2666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n only fin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indefinit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two basic steps to follow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438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.  Isolate the 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4400" y="3276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vert both sides…in other words, fi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6200" indent="-28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tideriv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5:59:17Z</dcterms:created>
  <dc:creator>EBRPSS</dc:creator>
  <dc:description/>
  <dc:language>en-US</dc:language>
  <cp:lastModifiedBy>RomaK</cp:lastModifiedBy>
  <dcterms:modified xsi:type="dcterms:W3CDTF">2015-09-04T07:36:28Z</dcterms:modified>
  <cp:revision>21</cp:revision>
  <dc:subject/>
  <dc:title>AP Calculus AB</dc:title>
</cp:coreProperties>
</file>